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9.png" ContentType="image/png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4EC-7280-4C46-B41E-D3800033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889-441D-41DC-BFDE-60456D09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8A2-47BA-441A-B6AC-00861D0E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23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4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23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4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641-3254-4352-BA59-91F467EA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7E4D-85CE-4EC8-AC23-554C05F3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553E-BD41-4983-8583-34D5E9D8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3D34-27CF-42C5-99E5-39A357D4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B673-A48B-4024-B196-AB77E2D7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5433-48DB-4C09-8BF3-2C8E4600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5640" y="457200"/>
            <a:ext cx="617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41EC-6BA2-4732-9778-C64534F8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C980-0E52-4145-A9B1-3EC9EC99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4D7-EED3-46E1-BAC1-DD166D10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2F7C-BA7F-4A19-9231-73CDF96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6CAC-5D2C-477A-BB50-22D34F9D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9796-02C7-4AE6-B4EE-053BB969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ED48-2AD9-4008-895F-3E47DCDD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3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84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23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84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FB77-CDF5-4D76-B781-4E1CE4D5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093-C530-44B5-9AFA-B310802B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E05-A75F-49D2-92E6-7E37E891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E81-A71C-478D-B915-C80BF17E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5640" y="457200"/>
            <a:ext cx="617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D3F-3B34-455D-9602-54F20F68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430-6746-4EE6-B8B6-81D8362A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D12-DDCE-41CE-BA0E-8A1F6E2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7C3-C352-4145-AFF9-4F256465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5FAF-6F62-4C7B-8580-9540B592BBF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0DD5-4A3B-4E0C-9F86-62102D15F63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3.png"/><Relationship Id="rId6" Type="http://schemas.openxmlformats.org/officeDocument/2006/relationships/image" Target="../media/image11.pct"/><Relationship Id="rId7" Type="http://schemas.openxmlformats.org/officeDocument/2006/relationships/image" Target="../media/image11.pct"/><Relationship Id="rId8" Type="http://schemas.openxmlformats.org/officeDocument/2006/relationships/image" Target="../media/image11.pct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542680" y="3733560"/>
            <a:ext cx="4619880" cy="533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Zach Walt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5638680" cy="141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706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Food Poiso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Carbon Monoxid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Rad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Chemic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Dru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Alcoh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152280"/>
            <a:ext cx="7696080" cy="1292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5706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37920" y="1523880"/>
            <a:ext cx="624852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Pupil enlargement or shrink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Dry mouth and sk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Increased or decreased heart 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Increased or decreased breathing 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Severe pain or pain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Hyperactivity, Drowsiness, Confusion or Dizz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324840" cy="155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706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Need a ventila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Paralyz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Canc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Organ damage (especially brain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Deat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81080" y="152280"/>
            <a:ext cx="5410440" cy="1532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706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ff00"/>
                </a:solidFill>
                <a:latin typeface="Tahoma"/>
              </a:rPr>
              <a:t>DON’T PANIC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ff00"/>
                </a:solidFill>
                <a:latin typeface="Tahoma"/>
              </a:rPr>
              <a:t>Try to vom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ff00"/>
                </a:solidFill>
                <a:latin typeface="Tahoma"/>
              </a:rPr>
              <a:t>Call Poison Contr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ff00"/>
                </a:solidFill>
                <a:latin typeface="Tahoma"/>
              </a:rPr>
              <a:t>Or call 9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ff00"/>
                </a:solidFill>
                <a:latin typeface="Tahoma"/>
              </a:rPr>
              <a:t>Get to local hospit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467840" cy="1293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5706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5486400" cy="1522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010280" y="4114800"/>
            <a:ext cx="1603440" cy="160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934320" y="1905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191120" y="1905120"/>
            <a:ext cx="1749240" cy="136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505320" y="3657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706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52:34Z</dcterms:created>
  <dc:creator>Kraybill Campus LMS</dc:creator>
  <dc:description/>
  <dc:language>en-US</dc:language>
  <cp:lastModifiedBy>Kraybill Campus LMS</cp:lastModifiedBy>
  <dcterms:modified xsi:type="dcterms:W3CDTF">2011-05-26T16:12:23Z</dcterms:modified>
  <cp:revision>7</cp:revision>
  <dc:subject/>
  <dc:title>PowerPoint Presentation</dc:title>
</cp:coreProperties>
</file>